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3D11-E776-41AB-B09F-F713EC82B9E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blog.acm.org/elearn/atom.xml" TargetMode="External"/><Relationship Id="rId2" Type="http://schemas.openxmlformats.org/officeDocument/2006/relationships/hyperlink" Target="http://blog.acm.org/elearn/atom.xml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577C-9A81-435B-9A3E-7626E3C0EA0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0FFB-EE49-45AC-91B4-47895977954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isting Resourc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ynchronous video catalog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ynchronous video stream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4206-E9D7-4FFE-A1CB-1B5ED49B3A1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line discussion in Learning Technologies and Selec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hat are the positive and negative impacts of learning technologies in your world (personal and/or professional)? Consider the challenges faced and the opportunitie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copy&gt;pas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701-416B-428B-B8B4-E863F6D9D44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alle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nter text (from online discussion from Moodle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py and paste 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RL (eLearn Blog -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blog.acm.org/elearn/atom.xml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dit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nguage (common words and word count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you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ximum wo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lphabet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dg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rec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or Varian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Random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tract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creen captu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nag-I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int Screen (show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mage edit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py / Pas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ave to public galle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ink to i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nds-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7AA0-EEC8-4FE9-BCAC-E263AE5044B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line form creato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naged in Google Doc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uto create/link to a 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FE7-269C-49E4-91C7-79CA9858574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ass management (survey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1036-09A6-4C51-861F-3FA2EF08FC0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docs (docs.google.com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accou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eate a form (create a form to evaluate the session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ew &gt;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ext &gt; Para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heckbox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hoose from a lis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rid / Matrix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Required ques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stribute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RL at bott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mail from Googl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mbed in web pag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ew the form data (show HU summer 2009 clinic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rom For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rom Spreadshee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otific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4" marL="526161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summary of respons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261D-7780-4799-87C3-CAF084DFC4D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DC1-CBD6-463F-8507-FAFDCCD96D31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ntro Myself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irector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ssistant Professor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ve 12 years of experience in instructional technology.  A large portion of that was spent doing eLearning design and development in multimedia production companies, independent consulting and in organizational learn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ore recently I’ve been working as a faculty member at the University and integrating learning technologies into my own courses and then working as the Director of Learning Technologies to integrate learning technologies throughout the Univers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ED47-2964-4B46-873D-53D412E69EE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oday I want to primarily talk with you about mindmapping, word clouds and google forms.  I’d like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the technolog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ive you a chance to get hands-on and talk about how to use these tools for assessme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itical thinking and metacogni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Goal: 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xplore the</a:t>
            </a: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use of mind mapping tools, word clouds and Google forms for assessment of student learning and evaluating the classroom experience. Critical thinking and meta-cognition are skills that can be enhanced through the techniques and tools that will be explored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Objectives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mindmapp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word clou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Demo google form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alk about how these tools can be used for assessment, critical thinking, metacognition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12D3-2429-44E5-89B9-8FCA5F6D95E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udience Analysis  (Put in Logos as wel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meister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ordle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oogle Forms?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DFF-51BC-4E24-98F8-42CD639AD13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entral Theme / Different than a flowchart (top down vs. center out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cept Map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chem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sual Representation of think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365-B1BD-4238-91C6-1A3991C9489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udent Comprehens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1" marL="3793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re-existing skill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textual Understand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ritical thinking (by viewing other students mind map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Note taking / Organizing their think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urse desig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rainstorm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350-97E0-4376-A636-5A76E9B2B9D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earning Technologies and Solu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rvey course of learning technolog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udents often come in with a limited view.  Course expands the view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 map three (3) times during the semester.  Beginning &gt; Middle &gt; End to indicate to me and to them how/if there view of learning technologies is chang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how exampl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ill Sans"/>
              </a:rPr>
              <a:t>Notes:  Emphasize that there is no correct mind map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3172-F708-44A6-A418-27B4BBAE940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ign up for an account (have students sign up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nod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comm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lin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attachment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asks (PM tool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ic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dd imag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517017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ands-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ign up for an accoun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3" marL="52158960"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indmap your experience her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llaborative Mindmap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48B0-0914-4CB5-9634-F9E2059C80A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ummarizing text by keywor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Larger keywords are more prevalent in the 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isual represent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wordle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wordle.net/" TargetMode="External"/><Relationship Id="rId5" Type="http://schemas.openxmlformats.org/officeDocument/2006/relationships/hyperlink" Target="http://www.wordle.net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indmeiste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1092240" y="2438280"/>
            <a:ext cx="5486400" cy="3303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7178760" y="2419200"/>
            <a:ext cx="4311720" cy="25336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Web 2.0 for Reflection and Assessment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803160" y="6248520"/>
            <a:ext cx="11703240" cy="100008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assroom 2.0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AI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riday, September 25, 200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8:15-9:15 A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HU-PPT-CONNECT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ummarize online discussion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ssess student wri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mpare student writ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683160" y="4343400"/>
            <a:ext cx="6248160" cy="33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1549440" y="1739880"/>
            <a:ext cx="10018800" cy="60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4" descr="HU-PPT-V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ord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ww.wordle.ne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RE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b-based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alle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nter tex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UR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di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Extrac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1625760" y="12193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454560" y="1943280"/>
            <a:ext cx="6172200" cy="60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" descr="HU-PPT-CONNECT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radition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ass management (survey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9216720" y="4819680"/>
            <a:ext cx="19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3366"/>
                </a:solidFill>
                <a:latin typeface="Wingdings"/>
                <a:ea typeface="Wingdings"/>
              </a:rPr>
              <a:t></a:t>
            </a:r>
            <a:endParaRPr b="0" lang="en-US" sz="15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ocs.google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Google Doc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Question Typ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Distribu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View the Dat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HU-PPT-blnk-gr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1168560" y="2789280"/>
            <a:ext cx="3200400" cy="21636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664240" y="3017880"/>
            <a:ext cx="685800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www.wordle.net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/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mages of wordle.net,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licensed by Creative Comm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4444920" y="4724280"/>
            <a:ext cx="693432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y Petrosk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rector of Learning Techn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istant Professor of Learning Techn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risburg Univer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597560" y="1676520"/>
            <a:ext cx="36576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2131920" y="1295280"/>
            <a:ext cx="3704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indmapp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8260920" y="6095880"/>
            <a:ext cx="3695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gle For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216320" y="2133720"/>
            <a:ext cx="5181480" cy="3801600"/>
            <a:chOff x="4216320" y="2133720"/>
            <a:chExt cx="5181480" cy="3801600"/>
          </a:xfrm>
        </p:grpSpPr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4216320" y="2133720"/>
              <a:ext cx="2674440" cy="19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3"/>
            <a:stretch/>
          </p:blipFill>
          <p:spPr>
            <a:xfrm>
              <a:off x="4216320" y="4027320"/>
              <a:ext cx="26744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>
              <a:off x="6723360" y="2133720"/>
              <a:ext cx="2674440" cy="190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5"/>
            <a:stretch/>
          </p:blipFill>
          <p:spPr>
            <a:xfrm>
              <a:off x="6723360" y="4027320"/>
              <a:ext cx="2674440" cy="19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8" name=""/>
          <p:cNvSpPr/>
          <p:nvPr/>
        </p:nvSpPr>
        <p:spPr>
          <a:xfrm>
            <a:off x="482760" y="5486400"/>
            <a:ext cx="4190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ssessment, Critical thinking, Metacogni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7621920" y="1295280"/>
            <a:ext cx="3398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d Cloud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HU-PPT-THINK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2439720" y="1143000"/>
            <a:ext cx="359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indmeister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5945760" y="3352680"/>
            <a:ext cx="2218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dl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"/>
          <p:cNvSpPr/>
          <p:nvPr/>
        </p:nvSpPr>
        <p:spPr>
          <a:xfrm>
            <a:off x="3119760" y="5334120"/>
            <a:ext cx="3926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gle Forms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HU-PPT-DISCOVER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indmapp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397160" y="2057400"/>
            <a:ext cx="10045440" cy="590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HU-PPT-CONNECT-bl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ssessme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tudent Comprehension (and pre-existing skills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textual Understand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rmative Evalu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ritical Thinking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Note taking (organizin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7264440" y="3657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9550440" y="44956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7950240" y="5943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5664240" y="6019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2997360" y="5562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406440" y="5943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8"/>
          <a:stretch/>
        </p:blipFill>
        <p:spPr>
          <a:xfrm>
            <a:off x="10464840" y="6172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9"/>
          <a:stretch/>
        </p:blipFill>
        <p:spPr>
          <a:xfrm>
            <a:off x="10617120" y="2743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HU-PPT-DISCOVER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50880" y="3733560"/>
            <a:ext cx="11702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y Changing View of Learning Techn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HU-PPT-V3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MindMeister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56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www.mindmeister.co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EE (Level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b-bas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d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ach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cons and Im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abor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HU-PPT-DISCOVER-gr-V2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ord Cloud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50880" y="3733560"/>
            <a:ext cx="117028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158920" y="1828800"/>
            <a:ext cx="8534520" cy="57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petroski</cp:lastModifiedBy>
  <dcterms:modified xsi:type="dcterms:W3CDTF">2009-09-25T13:48:35Z</dcterms:modified>
  <cp:revision>54</cp:revision>
  <dc:subject/>
  <dc:title>Slide 1</dc:title>
</cp:coreProperties>
</file>